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0143-707B-4F96-9C88-FFD363E6D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E473-4678-4B5A-8DA7-6E221949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91E8-9540-4086-847F-B6BE396D1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70F5-630B-423F-B407-331E907B4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F219-7648-4914-8D99-1BF6150EF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054E-86F4-4D05-8157-8DEB883B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9649-68C7-404F-8B03-6FFFD4B5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62F9-7A8D-41DE-A1BA-E91E0F2F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B4EB-DBEF-4256-9CDC-CFBF677E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5AFF-CF6E-4457-A5B4-31E948B5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E4AE-088B-48B0-8BDC-D851FBFC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4CA4-5276-4D83-904B-90E40D5A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B648-D025-47F0-92F5-E62E681F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2519-1178-4DE5-9357-A2D91EF2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3C6B-33D9-4C4C-BA9F-DFA3A5DF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6D6F-D276-49FC-B2D4-1E015E6F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2D87-2B9A-4EA2-A52C-4566F137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8AA2C-841C-475E-99C6-C52470FE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140AD-7B0A-4E73-B4A7-F870D418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DE6FB-3947-4F4C-80B7-6DE2C0F6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B7EFF-007E-4B78-A200-605E3971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2AF9F-3862-4E0D-AC0E-5367BF85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11DF-8BC0-49B8-8CDE-FF648493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6D74B-08E2-4B04-91B2-438605E1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13274-4303-4D0B-A4F4-37B3210A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963DD-E653-4B68-9A79-A989321C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4E4C3-9E0C-4344-AC39-4BFDC7BF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FB62A-AD64-49AE-9159-6212A861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BA7EB-7163-4FBD-BAD5-991172CE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373E9-FD17-4F04-912E-59132E47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B267F-3EA1-4012-B226-EFE46243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C731D-DA0A-49E1-9090-C6F9E958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94F5A-276E-4866-BAF6-C3207EB1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B0D7-6A3F-4E0F-B234-73F77961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C757C-1FB0-4461-9B84-129D60E7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5448E-BA04-4A9F-A872-20172069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2631A-D61D-40F4-8E6D-DE770E72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3C7CF-3D38-4BF1-95D7-94AB2033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CD916-EC56-46FD-A8E0-CAAFC136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93FD5-6A31-42A9-BD97-5468F8F3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4867E-3F3C-41B0-BD1D-334AA7E9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3C55A-0D9C-49F8-AAA2-78FEA284C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9733A-A86B-48B3-B580-3312CAEFD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C27B0-A45A-4565-B642-0DAEBC719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C73C-6A9D-4709-8D51-49276F97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71A11-CC6D-4A7E-B7EA-AF650F5C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E4021-1C92-4E13-97E7-CF383831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23ABB-A98F-43BA-80CF-94528A28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B0D71-8B50-49B2-BDD3-9C0756EF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03B7B-6C48-4640-B8A5-A8090ADA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5A7FD-4778-46CE-8B3D-64B2ED0C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0B084-895A-4AD8-A3F4-EB79A34B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3F48C-59C7-46BB-8157-BFC32DD8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0BC06-3437-4862-BB44-D1C8DD54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F6A82-3118-41D4-B1D8-95E26967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81C0-3911-438C-9170-4A45BA70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5CE1B-E2B7-42F9-B5EE-C5E17CACB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881CE-F037-4D50-8DAE-D47A14AB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4CD61-6097-4CA1-BDDE-6D7FF0ED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BC0F7-0FEF-4CA1-96FD-3591DABE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68227-AE8D-4E51-8540-7C03E40E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3354A-5C0C-44D9-AA1F-726546E4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856C5-A388-41D8-97C4-256F63C0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74AB9-A79D-4579-B8F3-91AE848A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C955C-0BCF-4408-9AA3-8C3993EF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D87DF-AD82-47AA-8C0C-7A39AE3C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1702-AA45-424C-8C28-50B5A1F6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2D3A6-C43E-4AFD-B0BA-3763BA9A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CCEE0-BF19-4788-BBD6-F752A9201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7C181-DFF6-490A-BF11-1799DD3FF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E3CF9-1677-4BF3-B349-05AF5E753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A3D9B-0E82-46DC-ABAE-9D0C880C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9E7F3-1913-4CE1-86AD-9056B303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32A2E-ADBB-4DD7-BC0E-9C051A66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E8377-96B1-4875-A20D-74387B53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29E06-8C8E-4C8C-A279-6236579A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C58B7-514B-4702-A5A0-0D556B6C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FE74-B4BF-4036-8836-CCCA8EBC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6F4FE-30F4-49FE-AF71-D8468F67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08C38-C8ED-4E14-9156-4C2D1DDD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7A534-6500-4DAA-92E7-DD56E338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1416C-1964-4763-9696-C33C6E1A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978C7-4C98-41CC-BA98-547CCE517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AF86-A40A-4342-AF6D-D4F15A20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36D3-2927-4738-91A9-97FC1D46A835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직사각형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직사각형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B436-CBBF-4B9B-80B6-5E4E9BB1D060}" type="slidenum"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0901-910D-4784-A148-63A5F49B37B0}" type="slidenum"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C3CB-CED3-4435-A317-11FD8FB0B16B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직사각형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3BD6-ED8A-452B-9BAC-ECFAFBE3FFA5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직사각형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직사각형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직사각형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직사각형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1905-7475-42BB-B58E-54B355B9235B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직사각형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직사각형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780E-6559-4C36-970B-F71A91CD923F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2-1. Sample Types &amp; Considering Factors for Collec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Sample Types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According to the physical conditions ; solid, liquid, or gas samples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According to the representativeness; bulk, partial, or mixed samples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According to the conventional names; Rock, soil, stream water, groundwater, coal, plant, food etc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Considering Factors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The essential requisite for the sample is the </a:t>
            </a:r>
            <a:r>
              <a:rPr b="1" lang="en-US" sz="1700" spc="-1" strike="noStrike">
                <a:solidFill>
                  <a:srgbClr val="ff0000"/>
                </a:solidFill>
                <a:latin typeface="Corbel"/>
              </a:rPr>
              <a:t>representativeness</a:t>
            </a: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 of the object of sampling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Then, consider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urpose of sampling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Budget  for  the analysis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Characteristics (Types) of the samples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5" descr="VAN_VEEN"/>
          <p:cNvPicPr/>
          <p:nvPr/>
        </p:nvPicPr>
        <p:blipFill>
          <a:blip r:embed="rId1"/>
          <a:stretch/>
        </p:blipFill>
        <p:spPr>
          <a:xfrm>
            <a:off x="179280" y="0"/>
            <a:ext cx="4284720" cy="41371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tools_vanveen_en_162213"/>
          <p:cNvPicPr/>
          <p:nvPr/>
        </p:nvPicPr>
        <p:blipFill>
          <a:blip r:embed="rId2"/>
          <a:stretch/>
        </p:blipFill>
        <p:spPr>
          <a:xfrm>
            <a:off x="179280" y="3860640"/>
            <a:ext cx="3048120" cy="28004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9" descr="alpinevirbracore2"/>
          <p:cNvPicPr/>
          <p:nvPr/>
        </p:nvPicPr>
        <p:blipFill>
          <a:blip r:embed="rId3"/>
          <a:stretch/>
        </p:blipFill>
        <p:spPr>
          <a:xfrm>
            <a:off x="3419640" y="2852640"/>
            <a:ext cx="2743200" cy="35053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K-B"/>
          <p:cNvPicPr/>
          <p:nvPr/>
        </p:nvPicPr>
        <p:blipFill>
          <a:blip r:embed="rId4"/>
          <a:stretch/>
        </p:blipFill>
        <p:spPr>
          <a:xfrm>
            <a:off x="6227640" y="836640"/>
            <a:ext cx="2552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3. Sampling Desig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Mostly depends on the distribution of the sediment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4. Treatment of Soil Sampl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Very similar to the soil sample treatm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ize fraction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3-5. Rock Sample Collection &amp; Prepara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1. General Considering Facto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Rock typ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Weather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ain size: generally sample size should be 60 times larger than the grain size ex) &lt;1/16cm 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 3*4*1 cm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tructure &amp; textur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2. Collection Method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Hamm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o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hiesl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2-2. Collection &amp; Pretreatment of Water Sample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Water samples?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Surface water (Streams, lakes, springs, etc.)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Groundwater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Meteoric water (rain, snow, fog, etc)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Considering factors of water sampling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Variable properties responding to a number of surrounding conditions such as T, P, time, biota, geology, etc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Should consider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ater type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arameters measured in the field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quired pretreat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Geological &amp; Hydrological conditions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Temporal &amp; spatial variatio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440"/>
            <a:ext cx="2890800" cy="1582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rbel"/>
              </a:rPr>
              <a:t>Methods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Scooping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Grab sampling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Bailor / Bomb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Pumping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2" descr="http://www.korearth.net/lecture/geochem/gchem_anal/ch03/w_scoop.jpg"/>
          <p:cNvPicPr/>
          <p:nvPr/>
        </p:nvPicPr>
        <p:blipFill>
          <a:blip r:embed="rId2"/>
          <a:stretch/>
        </p:blipFill>
        <p:spPr>
          <a:xfrm>
            <a:off x="3419640" y="1773360"/>
            <a:ext cx="1285560" cy="12859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http://www.korearth.net/lecture/geochem/gchem_anal/ch03/bailer1.gif"/>
          <p:cNvPicPr/>
          <p:nvPr/>
        </p:nvPicPr>
        <p:blipFill>
          <a:blip r:embed="rId3"/>
          <a:stretch/>
        </p:blipFill>
        <p:spPr>
          <a:xfrm>
            <a:off x="3059280" y="2997360"/>
            <a:ext cx="1820520" cy="3698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8" descr="http://www.korearth.net/lecture/geochem/gchem_anal/ch03/w_bomb.gif"/>
          <p:cNvPicPr/>
          <p:nvPr/>
        </p:nvPicPr>
        <p:blipFill>
          <a:blip r:embed="rId4"/>
          <a:stretch/>
        </p:blipFill>
        <p:spPr>
          <a:xfrm>
            <a:off x="826920" y="3573360"/>
            <a:ext cx="2219400" cy="27432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http://www.korearth.net/lecture/geochem/gchem_anal/ch03/s_pump2.jpg"/>
          <p:cNvPicPr/>
          <p:nvPr/>
        </p:nvPicPr>
        <p:blipFill>
          <a:blip r:embed="rId5"/>
          <a:stretch/>
        </p:blipFill>
        <p:spPr>
          <a:xfrm>
            <a:off x="6084720" y="3716280"/>
            <a:ext cx="2876760" cy="2914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http://www.korearth.net/lecture/geochem/gchem_anal/ch03/w_grab.jpg"/>
          <p:cNvPicPr/>
          <p:nvPr/>
        </p:nvPicPr>
        <p:blipFill>
          <a:blip r:embed="rId6"/>
          <a:stretch/>
        </p:blipFill>
        <p:spPr>
          <a:xfrm>
            <a:off x="4859280" y="1844640"/>
            <a:ext cx="237672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20145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Pretreatment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Filtr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Removal of SS &amp; (microbes),  with 0.1, 0.2 or 0.4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m pore membran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Acidific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Prohibiting pptn of the DS, with HNO3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Steriliz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Killing all the microbes, with HgCl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Refriger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Supress microbial activity at 4C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Picture 2" descr="http://www.korearth.net/lecture/geochem/gchem_anal/ch03/filter_app.jpg"/>
          <p:cNvPicPr/>
          <p:nvPr/>
        </p:nvPicPr>
        <p:blipFill>
          <a:blip r:embed="rId2"/>
          <a:stretch/>
        </p:blipFill>
        <p:spPr>
          <a:xfrm>
            <a:off x="1476360" y="3716280"/>
            <a:ext cx="3017880" cy="3017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http://www.korearth.net/lecture/geochem/gchem_anal/ch03/hand_vac.jpg"/>
          <p:cNvPicPr/>
          <p:nvPr/>
        </p:nvPicPr>
        <p:blipFill>
          <a:blip r:embed="rId3"/>
          <a:stretch/>
        </p:blipFill>
        <p:spPr>
          <a:xfrm>
            <a:off x="4500720" y="3860640"/>
            <a:ext cx="39146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3-3. Soil Sample Collection &amp; Prepara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1. General Considering Facto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typ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profil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Parents &amp; local geology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Plant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Land us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2. Collection Method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hovel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co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Aug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moistu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ustomized personalized devic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4" descr="hand1_l-soil-sampling-auger-water-level"/>
          <p:cNvPicPr/>
          <p:nvPr/>
        </p:nvPicPr>
        <p:blipFill>
          <a:blip r:embed="rId1"/>
          <a:stretch/>
        </p:blipFill>
        <p:spPr>
          <a:xfrm>
            <a:off x="250920" y="260280"/>
            <a:ext cx="4286160" cy="43243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10_b"/>
          <p:cNvPicPr/>
          <p:nvPr/>
        </p:nvPicPr>
        <p:blipFill>
          <a:blip r:embed="rId2"/>
          <a:stretch/>
        </p:blipFill>
        <p:spPr>
          <a:xfrm>
            <a:off x="395280" y="4000680"/>
            <a:ext cx="1905120" cy="28573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23_Soil-Sampling_3col"/>
          <p:cNvPicPr/>
          <p:nvPr/>
        </p:nvPicPr>
        <p:blipFill>
          <a:blip r:embed="rId3"/>
          <a:stretch/>
        </p:blipFill>
        <p:spPr>
          <a:xfrm>
            <a:off x="4714920" y="404640"/>
            <a:ext cx="4429080" cy="2810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0" descr="VL_sampler"/>
          <p:cNvPicPr/>
          <p:nvPr/>
        </p:nvPicPr>
        <p:blipFill>
          <a:blip r:embed="rId4"/>
          <a:stretch/>
        </p:blipFill>
        <p:spPr>
          <a:xfrm>
            <a:off x="3851280" y="3408480"/>
            <a:ext cx="508788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3. Sampling Desig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Barbell clust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Nested Cell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tratified vs. unstratifie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4. Treatment of Soil Sampl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Dry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iev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Removal of organic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ind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image008"/>
          <p:cNvPicPr/>
          <p:nvPr/>
        </p:nvPicPr>
        <p:blipFill>
          <a:blip r:embed="rId1"/>
          <a:stretch/>
        </p:blipFill>
        <p:spPr>
          <a:xfrm>
            <a:off x="684360" y="1989000"/>
            <a:ext cx="3744720" cy="30448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mt89illust1"/>
          <p:cNvPicPr/>
          <p:nvPr/>
        </p:nvPicPr>
        <p:blipFill>
          <a:blip r:embed="rId2"/>
          <a:stretch/>
        </p:blipFill>
        <p:spPr>
          <a:xfrm>
            <a:off x="5364000" y="206064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328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3-4. Sediment Sample Collection &amp; Prepara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1. General Considering Facto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patial (horizontal) var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Vertical (depth) var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ize distribu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Temporal var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edimentation mechanism (sedimentation media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Disturbance by sampl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Parental rock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2. Collection Method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a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o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ustomized personalized devic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1:44:53Z</dcterms:created>
  <dc:creator>user</dc:creator>
  <dc:description/>
  <dc:language>en-US</dc:language>
  <cp:lastModifiedBy>user</cp:lastModifiedBy>
  <dcterms:modified xsi:type="dcterms:W3CDTF">2011-11-14T23:57:18Z</dcterms:modified>
  <cp:revision>27</cp:revision>
  <dc:subject/>
  <dc:title>Ch. 2. BASICS of GEOCHEMICAL ANALYSIS</dc:title>
</cp:coreProperties>
</file>